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93E-CE9C-4384-BDB0-DF244FFF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72C-A2CC-4FBB-A474-EB3A8436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971-A72B-46B2-A591-E796AB57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880-06F8-4762-9916-3C6ECFF4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E724-E30C-49D6-83A7-96974176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B192-8401-48FA-9490-89F04DC3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A216-8894-4414-81F2-80A2326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7421-5E63-4CDB-917B-41BED5E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FC63-8BBA-45DF-A54D-3D856AE2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5022-F3D8-4658-9CBD-E259ACAC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7DD-C257-487A-8663-B0405D5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234-793A-4207-BD38-8F3C75CB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06F7-6494-4086-A4EA-BD338C9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D69E-6822-4DDF-A422-55E6EAC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43A-8CA0-4BDC-BEB4-F2FF6D21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E99-B813-4135-A61E-31463062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C83-00B5-4D3D-87DE-6A6A2CB0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5B8F7-8A39-454B-A75C-FA2F9821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DC176-6791-4E20-9B1E-97321BE8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69393-4993-44C4-A030-BBB3E59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9E33F-8C0C-44E4-B315-6291C661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6B165-1D2B-4D28-AE80-25ECCB6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B94-3F7E-40FF-9D00-C8C177E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DD53D-3DCD-431B-8054-C5704D8A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2EBF0-974A-4BA4-BA9E-F372701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C73CD-2ADB-4BDD-849E-EA414C13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B3A9F-6048-438C-BC20-EB3C587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F782A-CE81-4915-8003-6613150A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6ACA3-2E4C-44FB-A051-CBE9FAFF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9F3F0-AD80-4042-8201-CA806C4E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081B-5BBE-4E87-A5C6-B9E76CA0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E8BF-B0DD-45DD-B99C-7261CFC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9319-AA7D-48C5-9386-E5F2007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D33-57CC-4CC2-94C4-91C26E2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9415-2133-49DF-98F2-E261C68E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C12F-59AD-4458-8DA8-D4D2343A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6AE2-952B-4BE2-978A-34EF1303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5B30-AAC8-4206-BFD6-2DD75CC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304F-6E64-4A3E-9668-7FC2316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36FC-0CE9-41F4-A350-0D4CDB3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BACB-2432-4029-9D0D-D06089E9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FAA3-3FC1-4C9C-A9D5-27B5C7D4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2443-61AF-4843-B36B-852306E2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36C78-88B7-4BC6-8232-CA6F0009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C49-98C3-4DF6-BB73-A96F022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A4969-5BBA-4A84-9F5D-F7BF1A5D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15E90-C465-479D-8DEA-1EA8228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C2AF6-406E-4D88-AF9D-4A31922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7B414-F62E-4194-A578-57C88134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37B3E-990E-43AA-975C-7FA418CE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824C3-048A-4246-AACB-8267A14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F74FF-1554-4319-BE21-7E2010E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9065F-88A3-4C36-AB0D-1DE6687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82332-D876-400A-8924-D331956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356AC-D3B6-4A51-B7A6-97E0AD79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025-50E6-4880-B799-9E8FD41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20218-CC65-4D1E-BD0A-D5E364BB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6C772-0806-4ADB-89BD-C451426B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8AD74-B3FE-4E91-90E8-0BEEF9F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ACA96-06C9-438C-9B27-9BF759A4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992C8-C547-47E3-A42C-0BFC3C4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6A86D-44F5-4A43-936F-1C9D9FF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2BEE6-ACB2-48C8-AEAE-867888E7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685C1-1E3D-40C6-ADF0-57CBD954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6CAAA-508D-4587-9C39-11DA580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D9202-76FE-4EBA-9212-DEDA6BF4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510-1663-4128-9284-EF0419E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C4C47-97BB-4CAE-B032-E133B9C5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CA7AC-473D-4445-BD90-FB64E46D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5DE37-ACA1-4B9B-92B9-FA9C225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02885-D6A4-4865-99C6-C72BBCD9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EA10F-AF08-4849-B9FA-D11F02C6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988AE-CB3F-424B-9A0E-BCFE664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A7BCE-93AF-41E6-80C7-4E2DF4B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987B4-6FF8-4DA2-91D5-46B10E9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E9D39-56D4-48E1-A194-DE0FB06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1A1B7-EB40-4B61-AA70-DE08C6D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D90-69C9-45E1-9E94-9AD1DFE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BFA21-361A-4C3B-BAF0-225B723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E8959-7E52-417D-8E8D-D521CB6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D12B3-AB82-4AAE-9F84-1A3B6EA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F58A9-5ACF-4EA1-94AF-95970392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74FA5-42BD-495C-87E3-F12849E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656-329B-4EA3-90A3-E70B749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125-81FD-4BFC-A951-73CDD86A17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A91-BBF4-4C60-AF9B-937FF66092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3FD-EF62-4F5B-A5AB-92CB2F75B5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26A-68B9-4B1D-BD64-2F03EF4BCD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D05-ADBC-4C67-AA1C-69A58A48FC2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EB5-0173-4BDB-9492-CAE368294A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f1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537-C1E5-47C4-900E-4A29938AEA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жду нами говор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ожет быть и даже зр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 касаюсь этой тем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о извечная проблема –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евозможно, не измучив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ать ответ на каждый случай –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ы всего на двух из ни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становим этот ст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3.ЧТО БЫВАЕТ, КОГДА ГОВОРИШЬ ПРАВДУ?</a:t>
            </a:r>
            <a:br>
              <a:rPr sz="36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каза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охвали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лишить удовольств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ичего не буде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Заголовок 1"/>
          <p:cNvSpPr/>
          <p:nvPr/>
        </p:nvSpPr>
        <p:spPr>
          <a:xfrm>
            <a:off x="179280" y="260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гда говоришь правду, то тебя мог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fotomir.org/w/f/52.jpg"/>
          <p:cNvPicPr/>
          <p:nvPr/>
        </p:nvPicPr>
        <p:blipFill>
          <a:blip r:embed="rId1"/>
          <a:stretch/>
        </p:blipFill>
        <p:spPr>
          <a:xfrm>
            <a:off x="914400" y="3919680"/>
            <a:ext cx="643104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8920" y="836640"/>
            <a:ext cx="9217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862110"/>
                </a:solidFill>
                <a:latin typeface="Century Schoolbook"/>
              </a:rPr>
              <a:t>Ложь 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– это то, что не соответствует действительности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https://im0-tub-ru.yandex.net/i?id=92fd3af343669766ee207dce1a045e68-l&amp;n=13"/>
          <p:cNvPicPr/>
          <p:nvPr/>
        </p:nvPicPr>
        <p:blipFill>
          <a:blip r:embed="rId1"/>
          <a:stretch/>
        </p:blipFill>
        <p:spPr>
          <a:xfrm>
            <a:off x="3348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static.ozone.ru/multimedia/1009257233.jpg"/>
          <p:cNvPicPr/>
          <p:nvPr/>
        </p:nvPicPr>
        <p:blipFill>
          <a:blip r:embed="rId2"/>
          <a:stretch/>
        </p:blipFill>
        <p:spPr>
          <a:xfrm rot="20820000">
            <a:off x="274680" y="3822840"/>
            <a:ext cx="2760480" cy="27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https://im0-tub-ru.yandex.net/i?id=2a9e6ac7816652045ac17cc652222d56&amp;n=33&amp;h=215&amp;w=215"/>
          <p:cNvPicPr/>
          <p:nvPr/>
        </p:nvPicPr>
        <p:blipFill>
          <a:blip r:embed="rId3"/>
          <a:stretch/>
        </p:blipFill>
        <p:spPr>
          <a:xfrm>
            <a:off x="5940360" y="3429000"/>
            <a:ext cx="24796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ПОДБЕРИТЕ  </a:t>
            </a:r>
            <a:r>
              <a:rPr b="1" i="1" lang="ru-RU" sz="4400" spc="-1" strike="noStrike">
                <a:solidFill>
                  <a:srgbClr val="575f6d"/>
                </a:solidFill>
                <a:latin typeface="Century Schoolbook"/>
              </a:rPr>
              <a:t>СИНОНИМЫ К СЛОВУ </a:t>
            </a:r>
            <a:r>
              <a:rPr b="1" i="1" lang="ru-RU" sz="4400" spc="-1" strike="noStrike">
                <a:solidFill>
                  <a:srgbClr val="b32c16"/>
                </a:solidFill>
                <a:latin typeface="Century Schoolbook"/>
              </a:rPr>
              <a:t>«ЛОЖЬ»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419640" y="1197000"/>
            <a:ext cx="59450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еправд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рань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бман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ыдум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ымысел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еточность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леве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49760" indent="-14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2" descr="http://ranok-np.com.ua/img/6566/6929.jpg"/>
          <p:cNvPicPr/>
          <p:nvPr/>
        </p:nvPicPr>
        <p:blipFill>
          <a:blip r:embed="rId1"/>
          <a:stretch/>
        </p:blipFill>
        <p:spPr>
          <a:xfrm>
            <a:off x="250920" y="2836800"/>
            <a:ext cx="3097080" cy="3795840"/>
          </a:xfrm>
          <a:prstGeom prst="rect">
            <a:avLst/>
          </a:prstGeom>
          <a:ln w="0">
            <a:noFill/>
          </a:ln>
        </p:spPr>
      </p:pic>
      <p:pic>
        <p:nvPicPr>
          <p:cNvPr id="430" name="Полилиния 6" descr=""/>
          <p:cNvPicPr/>
          <p:nvPr/>
        </p:nvPicPr>
        <p:blipFill>
          <a:blip r:embed="rId2"/>
          <a:stretch/>
        </p:blipFill>
        <p:spPr>
          <a:xfrm>
            <a:off x="1901880" y="5157720"/>
            <a:ext cx="1158840" cy="82224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7" descr=""/>
          <p:cNvPicPr/>
          <p:nvPr/>
        </p:nvPicPr>
        <p:blipFill>
          <a:blip r:embed="rId3"/>
          <a:stretch/>
        </p:blipFill>
        <p:spPr>
          <a:xfrm>
            <a:off x="1749600" y="5241960"/>
            <a:ext cx="506160" cy="1292040"/>
          </a:xfrm>
          <a:prstGeom prst="rect">
            <a:avLst/>
          </a:prstGeom>
          <a:ln w="0">
            <a:noFill/>
          </a:ln>
        </p:spPr>
      </p:pic>
      <p:sp>
        <p:nvSpPr>
          <p:cNvPr id="432" name="Заголовок 1"/>
          <p:cNvSpPr/>
          <p:nvPr/>
        </p:nvSpPr>
        <p:spPr>
          <a:xfrm>
            <a:off x="539640" y="0"/>
            <a:ext cx="807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32c16"/>
                </a:solidFill>
                <a:latin typeface="Century Schoolbook"/>
              </a:rPr>
              <a:t>ЛОЖ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2.ДЛЯ ЧЕГО ЛЮДИ ГОВОРЯТ НЕПРАВДУ?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7128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боятся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не хотят огорчить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из трусости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Заголовок 1"/>
          <p:cNvSpPr/>
          <p:nvPr/>
        </p:nvSpPr>
        <p:spPr>
          <a:xfrm>
            <a:off x="250920" y="-243000"/>
            <a:ext cx="86151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ЛЮДИ ГОВОРЯТ НЕПРАВДУ, КОГ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http://baby.web-3.ru/data/articles/18398/3.jpg"/>
          <p:cNvPicPr/>
          <p:nvPr/>
        </p:nvPicPr>
        <p:blipFill>
          <a:blip r:embed="rId1"/>
          <a:stretch/>
        </p:blipFill>
        <p:spPr>
          <a:xfrm>
            <a:off x="2189160" y="3852720"/>
            <a:ext cx="42973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3.ЧТО БЫВАЕТ, КОГДА ГОВОРИШЬ НЕПРАВДУ, ЛГУТ?</a:t>
            </a:r>
            <a:br>
              <a:rPr sz="36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800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каза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охвали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лишить удовольств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ичего не буде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Заголовок 1"/>
          <p:cNvSpPr/>
          <p:nvPr/>
        </p:nvSpPr>
        <p:spPr>
          <a:xfrm>
            <a:off x="179280" y="260280"/>
            <a:ext cx="896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Когда говоришь неправду, лжешь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то тебя могут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https://im0-tub-ru.yandex.net/i?id=c0c95d005672925fe22ac5e28545e518-l&amp;n=13"/>
          <p:cNvPicPr/>
          <p:nvPr/>
        </p:nvPicPr>
        <p:blipFill>
          <a:blip r:embed="rId1"/>
          <a:stretch/>
        </p:blipFill>
        <p:spPr>
          <a:xfrm>
            <a:off x="2268360" y="4292640"/>
            <a:ext cx="4032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КАК ПОСТУПИТЬ - ВЫБИРАЙ САМ. </a:t>
            </a:r>
            <a:br>
              <a:rPr sz="4000"/>
            </a:b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ВЕДЬ ТЫ  - ЧЕЛОВЕК.</a:t>
            </a:r>
            <a:br>
              <a:rPr sz="48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Picture 2" descr="http://twizz.ru/wp-content/uploads/-000/1/1464013001-d09449d926e15619db47d519fa1be331.jpg"/>
          <p:cNvPicPr/>
          <p:nvPr/>
        </p:nvPicPr>
        <p:blipFill>
          <a:blip r:embed="rId1"/>
          <a:stretch/>
        </p:blipFill>
        <p:spPr>
          <a:xfrm>
            <a:off x="638280" y="4076640"/>
            <a:ext cx="2565360" cy="2565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https://im0-tub-ru.yandex.net/i?id=2ee34f02c0bda73dd78d4343405e715b-l&amp;n=13"/>
          <p:cNvPicPr/>
          <p:nvPr/>
        </p:nvPicPr>
        <p:blipFill>
          <a:blip r:embed="rId2"/>
          <a:stretch/>
        </p:blipFill>
        <p:spPr>
          <a:xfrm>
            <a:off x="4932360" y="3895560"/>
            <a:ext cx="3240000" cy="2675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https://im0-tub-ru.yandex.net/i?id=cb4236a913e22486b8c023f882630c4c-l&amp;n=13"/>
          <p:cNvPicPr/>
          <p:nvPr/>
        </p:nvPicPr>
        <p:blipFill>
          <a:blip r:embed="rId3"/>
          <a:stretch/>
        </p:blipFill>
        <p:spPr>
          <a:xfrm>
            <a:off x="324000" y="189000"/>
            <a:ext cx="2808000" cy="21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https://im0-tub-ru.yandex.net/i?id=b196ef48467a853a54bc623d46cd2d47-l&amp;n=13"/>
          <p:cNvPicPr/>
          <p:nvPr/>
        </p:nvPicPr>
        <p:blipFill>
          <a:blip r:embed="rId4"/>
          <a:stretch/>
        </p:blipFill>
        <p:spPr>
          <a:xfrm>
            <a:off x="5148360" y="0"/>
            <a:ext cx="3168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714240" y="907920"/>
            <a:ext cx="69534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5f6d"/>
                </a:solidFill>
                <a:latin typeface="Century Schoolbook"/>
              </a:rPr>
              <a:t>ПРАВДА В ОГНЕ НЕ ГОРИТ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Заголовок 1"/>
          <p:cNvSpPr/>
          <p:nvPr/>
        </p:nvSpPr>
        <p:spPr>
          <a:xfrm>
            <a:off x="5292720" y="4005360"/>
            <a:ext cx="338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КРАСИВАЯ ЛОЖЬ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Заголовок 1"/>
          <p:cNvSpPr/>
          <p:nvPr/>
        </p:nvSpPr>
        <p:spPr>
          <a:xfrm>
            <a:off x="324000" y="2565360"/>
            <a:ext cx="36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 В ВОДЕ НЕ ТОНЕТ.</a:t>
            </a:r>
            <a:br>
              <a:rPr sz="29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Заголовок 1"/>
          <p:cNvSpPr/>
          <p:nvPr/>
        </p:nvSpPr>
        <p:spPr>
          <a:xfrm>
            <a:off x="3851280" y="14842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ДА ОТ ПРАВДЫ НЕ УЙДЕШ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Заголовок 1"/>
          <p:cNvSpPr/>
          <p:nvPr/>
        </p:nvSpPr>
        <p:spPr>
          <a:xfrm>
            <a:off x="539640" y="-3160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СОБЕРИТЕ 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http://xvatit.com/uploads/posts/2016-05/1463725349_0.jpg"/>
          <p:cNvPicPr/>
          <p:nvPr/>
        </p:nvPicPr>
        <p:blipFill>
          <a:blip r:embed="rId1"/>
          <a:stretch/>
        </p:blipFill>
        <p:spPr>
          <a:xfrm>
            <a:off x="2556000" y="4818240"/>
            <a:ext cx="34527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02035 L 0.5316 -0.06244 E">
                                      <p:cBhvr>
                                        <p:cTn id="350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4172E-006 L -0.00399 0.2315 E">
                                      <p:cBhvr>
                                        <p:cTn id="352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5578E-006 L -0.55504 0.0007 E">
                                      <p:cBhvr>
                                        <p:cTn id="354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21184E-006 L 5E-006 0.36795 E">
                                      <p:cBhvr>
                                        <p:cTn id="356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АВИЛА ЧЕСТНОГО ПОВЕДЕНИЯ.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765000"/>
            <a:ext cx="849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казал – сделай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Не уверен – не обещай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Ошибся – признайс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Говори только то, что думаешь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Не можешь сказать правду – объясни почему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411480" indent="-411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ДОМАШНЕЕ ЗАДАНИЕ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50560" y="907560"/>
            <a:ext cx="856908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дберите пословицы о правде и лж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йдите и прочитайте литературные произведения по теме урок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очинить сказку, которая начиналась бы со слов: «Жили-были правда и ложь……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0" name="Picture 2" descr="http://dom-zadanie2012.narod.ru/images/6f156b4527682.jpg"/>
          <p:cNvPicPr/>
          <p:nvPr/>
        </p:nvPicPr>
        <p:blipFill>
          <a:blip r:embed="rId1"/>
          <a:stretch/>
        </p:blipFill>
        <p:spPr>
          <a:xfrm>
            <a:off x="5292720" y="4653000"/>
            <a:ext cx="260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5316480" cy="3213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594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3" name="Прямоугольник 3" descr=""/>
          <p:cNvPicPr/>
          <p:nvPr/>
        </p:nvPicPr>
        <p:blipFill>
          <a:blip r:embed="rId1"/>
          <a:stretch/>
        </p:blipFill>
        <p:spPr>
          <a:xfrm>
            <a:off x="1182600" y="384120"/>
            <a:ext cx="69976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2916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313160" y="1052640"/>
            <a:ext cx="4830840" cy="2520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-181080" y="342900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61722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908000" y="2276280"/>
            <a:ext cx="64058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«Правда и ложь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одзаголовок 2"/>
          <p:cNvSpPr/>
          <p:nvPr/>
        </p:nvSpPr>
        <p:spPr>
          <a:xfrm>
            <a:off x="4211640" y="4581360"/>
            <a:ext cx="6407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УРОКА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76360" y="1699920"/>
            <a:ext cx="684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ознакомить учащихся с ценностью «правда» и понятием «ложь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ЗАДАЧИ УРОКА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0560" y="691920"/>
            <a:ext cx="889308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уч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учить видеть и анализировать поступки окружающ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ть умения распознавать понятия «правда» и «ложь», проводить между ними различ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азвив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вать речь и мышление, умения анализировать различные нравственные проблемы, умение отстаивать свою точку зр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оспитательны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воспитывать коллективизм и умение работать в групп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закрепить коммуникативные навы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ть нравственную позицию учащих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воспитывать нравственные качества – честность, справедлив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78920" y="836640"/>
            <a:ext cx="9217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62110"/>
                </a:solidFill>
                <a:latin typeface="Century Schoolbook"/>
              </a:rPr>
              <a:t>Правда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– это то, что соответствует действительности, точно, верно, истинно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http://perego-shop.ru/gallery/images/1561724_tolkovyi-slovar-dalya.jpg"/>
          <p:cNvPicPr/>
          <p:nvPr/>
        </p:nvPicPr>
        <p:blipFill>
          <a:blip r:embed="rId1"/>
          <a:stretch/>
        </p:blipFill>
        <p:spPr>
          <a:xfrm rot="20632800">
            <a:off x="298080" y="404964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http://www.booksiti.net.ru/books/42473850.jpg"/>
          <p:cNvPicPr/>
          <p:nvPr/>
        </p:nvPicPr>
        <p:blipFill>
          <a:blip r:embed="rId2"/>
          <a:stretch/>
        </p:blipFill>
        <p:spPr>
          <a:xfrm>
            <a:off x="3492360" y="4076640"/>
            <a:ext cx="1746360" cy="227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0" descr="http://www.chtivo.ru/getpic3d/16775388/350/1380807.jpg"/>
          <p:cNvPicPr/>
          <p:nvPr/>
        </p:nvPicPr>
        <p:blipFill>
          <a:blip r:embed="rId3"/>
          <a:stretch/>
        </p:blipFill>
        <p:spPr>
          <a:xfrm>
            <a:off x="5724360" y="3789360"/>
            <a:ext cx="3068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ПОДБЕРИТЕ  </a:t>
            </a:r>
            <a:r>
              <a:rPr b="1" i="1" lang="ru-RU" sz="4400" spc="-1" strike="noStrike">
                <a:solidFill>
                  <a:srgbClr val="575f6d"/>
                </a:solidFill>
                <a:latin typeface="Century Schoolbook"/>
              </a:rPr>
              <a:t>СИНОНИМЫ К СЛОВУ </a:t>
            </a:r>
            <a:r>
              <a:rPr b="1" i="1" lang="ru-RU" sz="4400" spc="-1" strike="noStrike">
                <a:solidFill>
                  <a:srgbClr val="b32c16"/>
                </a:solidFill>
                <a:latin typeface="Century Schoolbook"/>
              </a:rPr>
              <a:t>«ПРАВДА»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419640" y="981000"/>
            <a:ext cx="59450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Действительн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стинн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одлинн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сти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Справедлив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аво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ерн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Точн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Согласен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80000" indent="-18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2" descr="http://ranok-np.com.ua/img/6566/6929.jpg"/>
          <p:cNvPicPr/>
          <p:nvPr/>
        </p:nvPicPr>
        <p:blipFill>
          <a:blip r:embed="rId1"/>
          <a:stretch/>
        </p:blipFill>
        <p:spPr>
          <a:xfrm>
            <a:off x="250920" y="2836800"/>
            <a:ext cx="3097080" cy="3795840"/>
          </a:xfrm>
          <a:prstGeom prst="rect">
            <a:avLst/>
          </a:prstGeom>
          <a:ln w="0">
            <a:noFill/>
          </a:ln>
        </p:spPr>
      </p:pic>
      <p:pic>
        <p:nvPicPr>
          <p:cNvPr id="404" name="Полилиния 6" descr=""/>
          <p:cNvPicPr/>
          <p:nvPr/>
        </p:nvPicPr>
        <p:blipFill>
          <a:blip r:embed="rId2"/>
          <a:stretch/>
        </p:blipFill>
        <p:spPr>
          <a:xfrm>
            <a:off x="1901880" y="5157720"/>
            <a:ext cx="1158840" cy="8222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7" descr=""/>
          <p:cNvPicPr/>
          <p:nvPr/>
        </p:nvPicPr>
        <p:blipFill>
          <a:blip r:embed="rId3"/>
          <a:stretch/>
        </p:blipFill>
        <p:spPr>
          <a:xfrm>
            <a:off x="1749600" y="5241960"/>
            <a:ext cx="506160" cy="1292040"/>
          </a:xfrm>
          <a:prstGeom prst="rect">
            <a:avLst/>
          </a:prstGeom>
          <a:ln w="0">
            <a:noFill/>
          </a:ln>
        </p:spPr>
      </p:pic>
      <p:sp>
        <p:nvSpPr>
          <p:cNvPr id="406" name="Заголовок 1"/>
          <p:cNvSpPr/>
          <p:nvPr/>
        </p:nvSpPr>
        <p:spPr>
          <a:xfrm>
            <a:off x="468360" y="0"/>
            <a:ext cx="807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32c16"/>
                </a:solidFill>
                <a:latin typeface="Century Schoolbook"/>
              </a:rPr>
              <a:t>ПРАВ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2.ДЛЯ ЧЕГО ЛЮДИ ГОВОРЯТ ПРАВДУ?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7128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очистить совесть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похвалили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честность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для справедливости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http://kuitto.3dn.ru/rukovod/povedenie-giperaktiv175043.jpg"/>
          <p:cNvPicPr/>
          <p:nvPr/>
        </p:nvPicPr>
        <p:blipFill>
          <a:blip r:embed="rId1"/>
          <a:stretch/>
        </p:blipFill>
        <p:spPr>
          <a:xfrm>
            <a:off x="2484360" y="4508640"/>
            <a:ext cx="3362400" cy="220500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1"/>
          <p:cNvSpPr/>
          <p:nvPr/>
        </p:nvSpPr>
        <p:spPr>
          <a:xfrm>
            <a:off x="250920" y="-243000"/>
            <a:ext cx="86151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ЛЮДИ ГОВОРЯТ ПРАВ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8:57:10Z</dcterms:created>
  <dc:creator>роман</dc:creator>
  <dc:description/>
  <dc:language>en-US</dc:language>
  <cp:lastModifiedBy>Admin</cp:lastModifiedBy>
  <dcterms:modified xsi:type="dcterms:W3CDTF">2018-11-24T14:54:38Z</dcterms:modified>
  <cp:revision>90</cp:revision>
  <dc:subject/>
  <dc:title>ОРКСЭ</dc:title>
</cp:coreProperties>
</file>